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0E9-359D-4187-BE9E-45DE36F4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639-8166-4B56-9DC5-52547495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633-181B-469D-9BED-2CAD46ED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0EF-107F-4CE6-AC00-CD5C5C02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5EF-3D3C-484A-A21B-C5091D79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49D-1819-41A3-B943-3F8C7A3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35E-B5B0-4568-AD5B-8FD30923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2DE-4372-4553-9D2B-A28729C6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A63-1939-486F-BD17-CFA3202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02F-1C61-4A2E-B615-765E07E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88C-3A04-4EF2-9AA6-8CC2EA4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A93-F425-488C-BB33-D0244835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0E0-0151-403D-9724-D9182221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a révision</a:t>
            </a:r>
            <a:br>
              <a:rPr sz="4400"/>
            </a:b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Sc-Huma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41752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ré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Colorie le drapeau de l’I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est la capitale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omme la plus haute montagne de l’I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s sont les 2 langues officielles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monnaie utilise-t-on en Inde et quelle est sa valeur au Can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omme 4 villes de l’I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est la population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religion est la plus pratiquée en 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 est le nom officiel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est la température à Bombay en jan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674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40:27Z</dcterms:created>
  <dc:creator>nbdoe</dc:creator>
  <dc:description/>
  <dc:language>en-US</dc:language>
  <cp:lastModifiedBy>nbdoe</cp:lastModifiedBy>
  <dcterms:modified xsi:type="dcterms:W3CDTF">2009-01-26T16:51:38Z</dcterms:modified>
  <cp:revision>2</cp:revision>
  <dc:subject/>
  <dc:title>La révision Sc-Humaines</dc:title>
</cp:coreProperties>
</file>